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FA9-92A5-48CE-95D6-DA46F51E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36F-93F2-40F9-B6FD-D7A1FCFA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64E-6A6D-4861-B110-B1D7F146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CA8-74EB-4C59-9F2E-269AD0E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E895-A60A-45BD-A286-0474E72F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7E4E-B5B8-4E28-BA1E-41084CE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A8BF-01DE-46F7-B12F-47A7B48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CBA-4271-43DF-96B9-7EDEA00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64D-AC20-4DD6-A8C3-6085BF36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8DD3-7174-467C-BF4C-5735501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54C-0D05-4C9A-B738-1694C56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3DE-55B4-4C0B-B5DB-5ABB3AD4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8B9D-B30E-4110-A59D-9CB8E00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B749-50AD-4BFE-993D-52923F5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EAF-D75C-4B07-9589-248E9B6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5E7-6A59-4C68-8400-74736174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422E-C063-4EC4-99A5-0E9441B6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D1CD-6209-4E81-9D7B-F62F2E44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112E-A124-4855-9CD6-3A49AA78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DCB3-0A6D-4352-BB75-B3387E6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DC80-02CD-4C53-9A25-327E989B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044A-AEEF-4D98-8278-8CC3604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B16-FA77-400F-BDD0-78D97B7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C3C6-AC23-4113-8E0F-44697CAB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33DB-4F3C-4939-A1E5-5FEC735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8943-A07A-4A1B-964B-2C89E46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7B10-E676-4B7F-8901-ACF8643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5965-8CE8-4C39-9143-70BFBE0F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6ED9-51C5-4DB8-A336-849B1ED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D66A-7F33-4823-861D-91E46607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B556-50D1-4689-B7B7-1E5114A7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4D09-623D-490D-A474-99BD80CD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F76D-72FE-4820-B68E-6211DA30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17-9663-4683-91C8-AA8EA86A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C9FD-1A92-47ED-990E-1A458D7D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85DB-1484-44D3-A7FA-C828BDD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752E-6555-4527-A877-80B9495C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A4E2-9AE6-46A3-A537-D5DAF77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CAE0-7473-4612-9E6F-8353B7E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6E56-1149-4A61-A48A-C85D933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81BF-9BF4-465F-B868-E6527CD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A5E0-E56C-4749-B825-86CC572D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DBEE-1F74-4664-99FB-17F3BFEC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4A04-7B81-4604-841E-038499BD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56B-9FE9-427C-AA96-257FCFF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A909-A075-492F-B2BB-D3F37F2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6FBF-5661-49A4-8B14-472AA12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29AE-F618-4671-9BDD-987CCC3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54B5-27BA-42BB-8706-0A37D85C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A932-3A32-463C-8F82-716D291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6EE2-82C7-49EA-A04B-5BC491F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95D9-D394-4DCD-AF99-6A4474A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4E4C-1BB1-467F-8FD0-65E743D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635B-3A46-47D8-BD5E-F904FEC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9E0A-1504-45B2-9C76-0F809FA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010-AE59-4592-9452-512A43D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6F40-3EDD-4DC8-91EC-438376C9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F9B-9DDA-47BD-955B-F6497B6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C5A-2ADF-42DE-B0DB-8665674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19F-B3B0-4F20-803D-814F778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FD4-7755-4E4A-A209-8E02021B2DE4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2A2-E5A3-4ACA-8FB7-9CD17945F0FA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4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29E-0023-4B4F-9CF3-FD4D0C456499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BE63-1767-4886-80EE-AA1A14FF9A08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F09-47CC-46C6-ADA9-79118F71DC03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496-6395-4683-A06C-6DF9A82DF02A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51B-3574-49D3-B6B3-663CFCE97CC2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63EC-DCB4-4DB1-AD20-BEC06520673B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FD80-D704-45D5-BE48-CBE34A39C05B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BF0-3A32-422C-9E04-35EE31D07823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146160" y="1560600"/>
            <a:ext cx="8242200" cy="2365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S8803 ED of the Future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October 28, 2008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0" y="5181480"/>
            <a:ext cx="3809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Presented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Kelly To (Health System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lek Bessaad (Architectu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rcRect l="2497" t="3267" r="2497" b="5181"/>
          <a:stretch/>
        </p:blipFill>
        <p:spPr>
          <a:xfrm>
            <a:off x="4800600" y="36576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2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B07-1A26-4C43-8D27-D83E92E856F6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5CE-87B4-4950-A782-216CFFFF5EA5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1752480" y="4114800"/>
            <a:ext cx="5791320" cy="1434600"/>
          </a:xfrm>
          <a:prstGeom prst="rect">
            <a:avLst/>
          </a:prstGeom>
          <a:gradFill rotWithShape="0">
            <a:gsLst>
              <a:gs pos="0">
                <a:srgbClr val="ffeab2"/>
              </a:gs>
              <a:gs pos="100000">
                <a:srgbClr val="fff7e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al and emotional Comf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personaliz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or eliminate environmental stress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17"/>
          <p:cNvGrpSpPr/>
          <p:nvPr/>
        </p:nvGrpSpPr>
        <p:grpSpPr>
          <a:xfrm>
            <a:off x="457200" y="838080"/>
            <a:ext cx="8305920" cy="2539080"/>
            <a:chOff x="457200" y="838080"/>
            <a:chExt cx="8305920" cy="2539080"/>
          </a:xfrm>
        </p:grpSpPr>
        <p:pic>
          <p:nvPicPr>
            <p:cNvPr id="279" name="Picture 2" descr="C:\Users\My Ngoc\Desktop\Ti Stuffs\universal room\decorative lights.jpg"/>
            <p:cNvPicPr/>
            <p:nvPr/>
          </p:nvPicPr>
          <p:blipFill>
            <a:blip r:embed="rId1"/>
            <a:stretch/>
          </p:blipFill>
          <p:spPr>
            <a:xfrm>
              <a:off x="6469200" y="838080"/>
              <a:ext cx="229392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" descr="C:\Users\My Ngoc\Desktop\Ti Stuffs\universal room\ambient light.jpg"/>
            <p:cNvPicPr/>
            <p:nvPr/>
          </p:nvPicPr>
          <p:blipFill>
            <a:blip r:embed="rId2"/>
            <a:stretch/>
          </p:blipFill>
          <p:spPr>
            <a:xfrm>
              <a:off x="457200" y="838080"/>
              <a:ext cx="2373120" cy="18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" descr="C:\Users\My Ngoc\Desktop\Ti Stuffs\universal room\focal light.jpg"/>
            <p:cNvPicPr/>
            <p:nvPr/>
          </p:nvPicPr>
          <p:blipFill>
            <a:blip r:embed="rId3"/>
            <a:stretch/>
          </p:blipFill>
          <p:spPr>
            <a:xfrm>
              <a:off x="3463200" y="838080"/>
              <a:ext cx="2403000" cy="189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14"/>
            <p:cNvSpPr/>
            <p:nvPr/>
          </p:nvSpPr>
          <p:spPr>
            <a:xfrm>
              <a:off x="6469200" y="2712960"/>
              <a:ext cx="22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Decorative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Personal touch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Box 15"/>
            <p:cNvSpPr/>
            <p:nvPr/>
          </p:nvSpPr>
          <p:spPr>
            <a:xfrm>
              <a:off x="3316320" y="2733840"/>
              <a:ext cx="25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Focal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Focus; high intensity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Box 16"/>
            <p:cNvSpPr/>
            <p:nvPr/>
          </p:nvSpPr>
          <p:spPr>
            <a:xfrm>
              <a:off x="663120" y="27345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Ambient Ligh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Mood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14"/>
          <p:cNvSpPr/>
          <p:nvPr/>
        </p:nvSpPr>
        <p:spPr>
          <a:xfrm>
            <a:off x="838080" y="34290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12d3b"/>
                </a:solidFill>
                <a:latin typeface="Angsana New"/>
                <a:ea typeface="Angsana New"/>
              </a:rPr>
              <a:t>Therapeutic environment: psycho-socially suppor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Title 6" descr=""/>
          <p:cNvPicPr/>
          <p:nvPr/>
        </p:nvPicPr>
        <p:blipFill>
          <a:blip r:embed="rId4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88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D18-C50D-48D7-807F-2EEA5CD4856B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1BF-E413-4E7F-AD26-37D1EBE2CED7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Design &amp; Concept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133280"/>
            <a:ext cx="2590920" cy="5181480"/>
          </a:xfrm>
          <a:prstGeom prst="rect">
            <a:avLst/>
          </a:prstGeom>
          <a:noFill/>
          <a:ln w="0">
            <a:noFill/>
          </a:ln>
        </p:spPr>
        <p:txBody>
          <a:bodyPr lIns="45720" r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OCAL LIGHT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nhance visual focus on procedure at han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Benefi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duce time spent on treatment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duce errors due to poor light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crease quality of ca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Content Placeholder 3" descr="focal light1.jpg"/>
          <p:cNvPicPr/>
          <p:nvPr/>
        </p:nvPicPr>
        <p:blipFill>
          <a:blip r:embed="rId1"/>
          <a:stretch/>
        </p:blipFill>
        <p:spPr>
          <a:xfrm>
            <a:off x="3352680" y="1143000"/>
            <a:ext cx="5569200" cy="4176720"/>
          </a:xfrm>
          <a:prstGeom prst="rect">
            <a:avLst/>
          </a:prstGeom>
          <a:ln w="0">
            <a:noFill/>
          </a:ln>
        </p:spPr>
      </p:pic>
      <p:sp>
        <p:nvSpPr>
          <p:cNvPr id="294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12B-DB57-4597-BEB4-CB7C21B97204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06C-09E6-4EDC-8F9B-BD5F862F6BD7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76B-4EFE-4FD9-8B85-640E96036D35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F52-1E0C-42D4-B8DB-5A2D1C7273F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676520" y="609480"/>
            <a:ext cx="548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Lighting - Morpheus Room – Light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uu7p9vcBF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pic>
        <p:nvPicPr>
          <p:cNvPr id="303" name="uu7p9vcBFMc.wmv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823-D66C-4484-876B-E2ABDC7E23B0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A64-AD0E-48EF-8DCA-95BD54666FE5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DA1F-F877-434F-A13D-FC2BDE93D5F8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D53-0240-4C30-AE14-62E8ACF85B2F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3EEE-BB19-421A-8D12-BAD19DC57C7C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62A-5EDB-435A-8F3A-7140D1A87610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1280" indent="-26496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1280" indent="-26496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Materials &amp; Budget Propos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09240" indent="-30924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DC8-1B05-4B59-9CA3-C87FB1D7D844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68B-1D2A-47A1-AC9E-4E5E4C36988A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rcRect l="47223" t="23113" r="10000" b="7555"/>
          <a:stretch/>
        </p:blipFill>
        <p:spPr>
          <a:xfrm>
            <a:off x="304920" y="4572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6324480" y="2438280"/>
            <a:ext cx="2684520" cy="1798920"/>
          </a:xfrm>
          <a:prstGeom prst="rect">
            <a:avLst/>
          </a:prstGeom>
          <a:noFill/>
          <a:ln w="9360">
            <a:solidFill>
              <a:srgbClr val="ff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 breakdow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D Lights, power supply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automated control - $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Lights -$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Budget Proposal: $1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24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75B3-0EC1-4A6B-822D-2954B43E3283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62B-F8D7-4DE4-B1BD-8F7D5FB89801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Discussion &amp; Next Step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4BD-41C1-4D40-9C8B-B50D0BFFA754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80A3-310C-4315-8CB5-B7015506CE40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2"/>
          <p:cNvSpPr/>
          <p:nvPr/>
        </p:nvSpPr>
        <p:spPr>
          <a:xfrm>
            <a:off x="304920" y="4648320"/>
            <a:ext cx="8610480" cy="1600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eeeeee"/>
              </a:gs>
            </a:gsLst>
            <a:lin ang="162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isit emergency departments and talk to the physician and staff about what their preference and needs for lights a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illingness to try the new lighting syst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act potential suppliers (ex: Color Kinetics)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ponsorship and/or discou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04920" y="533520"/>
            <a:ext cx="8610480" cy="39621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roject Defined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ot focused on the electrical engineering part (PCB schematic, et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cus on incorporating available technology in an innovative way to enhance patient experience in the ED room and also provide quality lighting for staff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existing technology comes in various forms (all should be user controlled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. programmable LED mood light pane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 strips lighting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. changing LED lights projected onto the wall / ceil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multi-color changing LED lights technology is implemented mostly for entertainment industry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cern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w to integrate this light technology into existing room in HSI buil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25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EFCD-8944-473E-BFA7-F0B321F81C77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456-04BF-42C3-A366-CAE6C26A1F2A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335" name="Date Placeholder 2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DCC7-4164-4E45-A928-4016F0E55995}" type="datetime">
              <a:rPr b="0" lang="en-US" sz="1200" spc="-1" strike="noStrike">
                <a:solidFill>
                  <a:srgbClr val="bcb7a8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209-9851-4487-AEF9-003D6AA976C3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My Ngoc\Desktop\Ti Stuffs\universal room\intense colors.jpg"/>
          <p:cNvPicPr/>
          <p:nvPr/>
        </p:nvPicPr>
        <p:blipFill>
          <a:blip r:embed="rId2"/>
          <a:stretch/>
        </p:blipFill>
        <p:spPr>
          <a:xfrm>
            <a:off x="380880" y="167652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3189960" y="3962520"/>
            <a:ext cx="6071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Contact informa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Kelly To: </a:t>
            </a:r>
            <a:r>
              <a:rPr b="1" lang="en-US" sz="2200" spc="-1" strike="noStrike">
                <a:solidFill>
                  <a:srgbClr val="6701fd"/>
                </a:solidFill>
                <a:latin typeface="Corbel"/>
              </a:rPr>
              <a:t>bto@gatech.ed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lek Bessaad: </a:t>
            </a:r>
            <a:r>
              <a:rPr b="1" lang="en-US" sz="2200" spc="-1" strike="noStrike">
                <a:solidFill>
                  <a:srgbClr val="6701fd"/>
                </a:solidFill>
                <a:latin typeface="Corbel"/>
              </a:rPr>
              <a:t>malek.bessaad@gmail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30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9278-79D2-4AE3-824B-00E8DDB9503F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47A-D94E-4789-BBE5-99521510E53B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Problem &amp; Project Goal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Background Resear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6" descr=""/>
          <p:cNvPicPr/>
          <p:nvPr/>
        </p:nvPicPr>
        <p:blipFill>
          <a:blip r:embed="rId1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Both goals should produce economically cost-effective solutions. The proposed lighting system should be relatively affordable while incurring higher magnitude in benefit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E64-D79D-491C-AAF6-C05696E66A9A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A0B-1DAD-487B-88C6-BFD7AD4D865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304920" y="609480"/>
            <a:ext cx="845820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ufficient lighting in the emergency 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tale atmosphere and unwelcoming environment could affect healing process due to psycho-physiological eff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sician &amp; nur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oor quality lighting prevents accurate vision could lead to poor treatment &amp; extended time spent on proced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2438280"/>
            <a:ext cx="8458200" cy="31244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255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GOAL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improve lighting in the emergency room for both the patient and healthcare staff throug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porate mood lighting into the room with user control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aling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sitive distra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Provide healthcare staff with quality focal lighting to improve vision during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lity light for different specialized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ick and easy contr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6" descr=""/>
          <p:cNvPicPr/>
          <p:nvPr/>
        </p:nvPicPr>
        <p:blipFill>
          <a:blip r:embed="rId1"/>
          <a:stretch/>
        </p:blipFill>
        <p:spPr>
          <a:xfrm>
            <a:off x="66600" y="30240"/>
            <a:ext cx="8626680" cy="1006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AF8F-7B7B-485F-8710-60CD37F18232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0DCF-9524-4FDD-BEAC-11AB5F0EC900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Problem &amp; Project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Background Researc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atient activities &amp; care z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7400" indent="-267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ighting &amp; colors on psych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esign &amp; Concep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Materials &amp; Budget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spcBef>
                <a:spcPts val="751"/>
              </a:spcBef>
              <a:spcAft>
                <a:spcPts val="1199"/>
              </a:spcAft>
              <a:buClr>
                <a:srgbClr val="bfbfb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Corbel"/>
              </a:rPr>
              <a:t>Discussion &amp; Next Step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Content Placeholder 12" descr="patient care related activities.jpg"/>
          <p:cNvPicPr/>
          <p:nvPr/>
        </p:nvPicPr>
        <p:blipFill>
          <a:blip r:embed="rId1">
            <a:lum contrast="40000"/>
          </a:blip>
          <a:srcRect l="0" t="10141" r="0" b="2926"/>
          <a:stretch/>
        </p:blipFill>
        <p:spPr>
          <a:xfrm>
            <a:off x="533520" y="533520"/>
            <a:ext cx="822960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Date Placeholder 1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5B3B-692C-4215-A598-3AC693937BBF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ooter Placeholder 1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1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9D2-CF75-4C53-8D2E-2CAFC9CB9B09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3" descr="activity.frequency.jpg"/>
          <p:cNvPicPr/>
          <p:nvPr/>
        </p:nvPicPr>
        <p:blipFill>
          <a:blip r:embed="rId1"/>
          <a:srcRect l="0" t="4033" r="1086" b="7224"/>
          <a:stretch/>
        </p:blipFill>
        <p:spPr>
          <a:xfrm>
            <a:off x="609480" y="990720"/>
            <a:ext cx="7848720" cy="503208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D28-96EA-4D12-B884-C831A0361E8A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B33-95A0-41C7-ADEA-CFE1FB857E6B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Content Placeholder 3" descr="care actity zone.jpg"/>
          <p:cNvPicPr/>
          <p:nvPr/>
        </p:nvPicPr>
        <p:blipFill>
          <a:blip r:embed="rId1"/>
          <a:srcRect l="0" t="0" r="1219" b="7187"/>
          <a:stretch/>
        </p:blipFill>
        <p:spPr>
          <a:xfrm>
            <a:off x="914400" y="533520"/>
            <a:ext cx="728172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4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E86-37B5-4F08-93F2-BEF3686D0DD2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E1F-5458-4276-B499-949E291E6AFF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447920" y="601992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ant D., and Lanning K. Streamlining Patient Care Processes through Flexible Room and Equipment Design. Planning and Design. Critical Care Nursing. 2001; 24(3):59-76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Title 6" descr=""/>
          <p:cNvPicPr/>
          <p:nvPr/>
        </p:nvPicPr>
        <p:blipFill>
          <a:blip r:embed="rId2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1268280" y="974880"/>
            <a:ext cx="2664000" cy="426960"/>
          </a:xfrm>
          <a:prstGeom prst="rect">
            <a:avLst/>
          </a:prstGeom>
          <a:ln w="0">
            <a:noFill/>
          </a:ln>
        </p:spPr>
      </p:pic>
      <p:sp>
        <p:nvSpPr>
          <p:cNvPr id="265" name="Date Placeholder 3"/>
          <p:cNvSpPr/>
          <p:nvPr/>
        </p:nvSpPr>
        <p:spPr>
          <a:xfrm>
            <a:off x="45720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893-9D8D-4EC6-8578-04232A5EF2F5}" type="datetime">
              <a:rPr b="0" lang="en-US" sz="12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To &amp; Bessa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568-FCFB-4A12-BF02-46768FDF1006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C:\Users\My Ngoc\Desktop\Ti Stuffs\universal room\ColorWheelText_NEW_400pxl.jpg"/>
          <p:cNvPicPr/>
          <p:nvPr/>
        </p:nvPicPr>
        <p:blipFill>
          <a:blip r:embed="rId2"/>
          <a:stretch/>
        </p:blipFill>
        <p:spPr>
          <a:xfrm>
            <a:off x="457200" y="1371600"/>
            <a:ext cx="4376880" cy="4343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My Ngoc\Desktop\Ti Stuffs\universal room\brain_colors.jpg"/>
          <p:cNvPicPr/>
          <p:nvPr/>
        </p:nvPicPr>
        <p:blipFill>
          <a:blip r:embed="rId3"/>
          <a:stretch/>
        </p:blipFill>
        <p:spPr>
          <a:xfrm>
            <a:off x="5334120" y="396252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Users\My Ngoc\Desktop\Ti Stuffs\universal room\psychology.light.jpg"/>
          <p:cNvPicPr/>
          <p:nvPr/>
        </p:nvPicPr>
        <p:blipFill>
          <a:blip r:embed="rId4"/>
          <a:stretch/>
        </p:blipFill>
        <p:spPr>
          <a:xfrm>
            <a:off x="6172200" y="914400"/>
            <a:ext cx="2590920" cy="2760840"/>
          </a:xfrm>
          <a:prstGeom prst="rect">
            <a:avLst/>
          </a:prstGeom>
          <a:ln w="0">
            <a:noFill/>
          </a:ln>
        </p:spPr>
      </p:pic>
      <p:pic>
        <p:nvPicPr>
          <p:cNvPr id="271" name="Straight Arrow Connector 14" descr=""/>
          <p:cNvPicPr/>
          <p:nvPr/>
        </p:nvPicPr>
        <p:blipFill>
          <a:blip r:embed="rId5"/>
          <a:stretch/>
        </p:blipFill>
        <p:spPr>
          <a:xfrm>
            <a:off x="7564320" y="3760920"/>
            <a:ext cx="744480" cy="1122120"/>
          </a:xfrm>
          <a:prstGeom prst="rect">
            <a:avLst/>
          </a:prstGeom>
          <a:ln w="0">
            <a:noFill/>
          </a:ln>
        </p:spPr>
      </p:pic>
      <p:pic>
        <p:nvPicPr>
          <p:cNvPr id="272" name="Straight Arrow Connector 16" descr=""/>
          <p:cNvPicPr/>
          <p:nvPr/>
        </p:nvPicPr>
        <p:blipFill>
          <a:blip r:embed="rId6"/>
          <a:stretch/>
        </p:blipFill>
        <p:spPr>
          <a:xfrm>
            <a:off x="4127400" y="5230800"/>
            <a:ext cx="1114560" cy="414360"/>
          </a:xfrm>
          <a:prstGeom prst="rect">
            <a:avLst/>
          </a:prstGeom>
          <a:ln w="0">
            <a:noFill/>
          </a:ln>
        </p:spPr>
      </p:pic>
      <p:pic>
        <p:nvPicPr>
          <p:cNvPr id="273" name="Title 6" descr=""/>
          <p:cNvPicPr/>
          <p:nvPr/>
        </p:nvPicPr>
        <p:blipFill>
          <a:blip r:embed="rId7"/>
          <a:stretch/>
        </p:blipFill>
        <p:spPr>
          <a:xfrm>
            <a:off x="139680" y="-12600"/>
            <a:ext cx="8400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2:23:27Z</dcterms:created>
  <dc:creator>My Ngoc</dc:creator>
  <dc:description/>
  <dc:language>en-US</dc:language>
  <cp:lastModifiedBy>My Ngoc</cp:lastModifiedBy>
  <dcterms:modified xsi:type="dcterms:W3CDTF">2008-10-28T05:20:25Z</dcterms:modified>
  <cp:revision>39</cp:revision>
  <dc:subject/>
  <dc:title>Lighting in Emergency room</dc:title>
</cp:coreProperties>
</file>